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610-CDE6-4940-8FCB-0D2ABE52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B7A-FF22-4308-83FD-EDC6702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442-5E26-489D-9A74-D1AB91E3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164-7573-4E48-B1C0-2FFE22B2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495E-7A6F-4EA0-A4DE-F4F2C264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99D-9A46-4D95-BDAE-C0D26C2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046A-432B-4F9C-BCB0-54B0385C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11A-D572-4494-8000-5E32CC3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4D67-F282-4234-A254-9EB38D4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2E3-BED8-4A0A-BA8D-DBD5CDB7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8AD-7A0C-4B67-BCCA-BC6F320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726-3F64-4AE4-BFB5-CE5B5F9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C4C5-7BD6-4FD1-A302-65FAE28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F908-ECD2-46AF-8D64-132E833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DF6-0874-4A2F-A2DC-46BC5553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16B-1E93-4A78-9270-695D229C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136-1EC2-4298-85D5-C853B84F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674-A4D7-4F51-88D8-ED7C6A3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B35-8207-4113-9CAD-709BCE32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EDB-B9D9-4B7C-9875-914669CA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DBD-41CE-4281-A3AA-0AEAC08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954-E6B2-484B-8C9F-0F3AD3A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441-9AAA-48AF-B1B4-DE536C2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5F13-75BB-4949-AD99-E884806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9865-0D7B-4AEC-A202-C4E90BFB1F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7324-9CA1-46DF-9519-AA1AA13A05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b.uconn.edu/help/askHomer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b.uconn.edu/using/tutorials/" TargetMode="External"/><Relationship Id="rId2" Type="http://schemas.openxmlformats.org/officeDocument/2006/relationships/hyperlink" Target="http://www.lib.uconn.edu/using/finding/guides/elecref.htm" TargetMode="External"/><Relationship Id="rId3" Type="http://schemas.openxmlformats.org/officeDocument/2006/relationships/hyperlink" Target="http://homerweb.lib.uconn.edu/" TargetMode="External"/><Relationship Id="rId4" Type="http://schemas.openxmlformats.org/officeDocument/2006/relationships/hyperlink" Target="http://www.lib.uconn.edu/online/ejournals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ag2002547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sda.gov/" TargetMode="External"/><Relationship Id="rId2" Type="http://schemas.openxmlformats.org/officeDocument/2006/relationships/hyperlink" Target="http://www.ofrf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hslmc2008.wikispaces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conn.edu/" TargetMode="External"/><Relationship Id="rId2" Type="http://schemas.openxmlformats.org/officeDocument/2006/relationships/hyperlink" Target="http://www.lib.uconn.edu/" TargetMode="External"/><Relationship Id="rId3" Type="http://schemas.openxmlformats.org/officeDocument/2006/relationships/hyperlink" Target="http://classguides.lib.uconn.edu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ibrary Orient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.C.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LINE or In-Person HELP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are stumped about something, 10 a.m. to 5 p.m., there is help in an online resource called “askHomer Live” which provides you the ability to ask reference questions and get answers in “real time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 to 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help/askHom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LICK on the Link to your UCONN Specialty Reference Librarian (highlighted on another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 COME TO YOUR VERY OWN HIGH SCHOOL LIBRARIAN: Mrs. Fitzgera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f you want tutorials for Library or UCONN Resources in general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Library Introduction/Orientation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lib.uconn.edu/using/tutorials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ss to Electronic Information Resource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/using/finding/guides/elecref.htm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mer, the online Catalog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homerweb.lib.uconn.e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atabase Locator: www.lib.uconn.edu/online/datab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Journals – Locate Electronic Journals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lib.uconn.edu/online/ejour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: ENVIRO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ticle: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merica’s Food Crisis and How to Fix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ll text article online can be found in ICON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merica's food crisis and how to fix it. (The Well; Cover Story; Environment ...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 August 31, 2009 ; Cover story ; Time   ; 174 ; 8 ; 30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itation information availab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searching ICONN found rebuttal artic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on Searching UCONN resources found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7800" y="22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PECIALTY ENVIRONMENTAL SCIENCE – REFERENCE LIBRARIAN with specialt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098720"/>
            <a:ext cx="79250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5480" y="195120"/>
            <a:ext cx="8295840" cy="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ith Links to Environment Resour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866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90520"/>
            <a:ext cx="853452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atures of Note to help you alo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FT MARGIN has links to related su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ulti-tasking or saving for later (features you can have it read to you through an MP3 Download if you are going to be on a bus or riding in a c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nt articles or Email them to store them electronic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okmark things: example: Bookmark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py the Bookmark URL and paste it into another document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http://find.galegroup.com/gps/infomark.do?contentSet=IAC-Documents&amp;docType=IAC&amp;type=retrieve&amp;tabID=T007&amp;prodId=IPS&amp;docId=A206170769&amp;userGroupName=s1461&amp;version=1.0&amp;source=gale&amp;infoPage=infoMark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cial Online features to hel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772400" cy="376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62485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eded to access Information and Technology Services through UCON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tID: eight digit network identif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sword:   (you create after entering your activation code for the first ti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42840" y="519120"/>
            <a:ext cx="725832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buttal article(s) may be f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 Time Magazine's Cover Article Draw Pork Industry Rebuttal. 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 August 31, 2009 ; Article ; National Hog Farmer (Online Exclusive)   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People mentioned in arti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80720" y="333720"/>
            <a:ext cx="847692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Some Primary Sources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uch as Newspapers available both through ICONN and UCON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8953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62080" y="186120"/>
            <a:ext cx="831420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OD SUPPLY and ENVIRON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7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0440" y="190800"/>
            <a:ext cx="838116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arches may yield only Abstrac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280" y="676440"/>
            <a:ext cx="88203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arch Government Docu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line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ations web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vernment group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DA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sda.gov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 other group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CSUSA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ww.ucsusa.org/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food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_and_agriculture/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 Organic Farming Research Foundation :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OFRF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62720" y="1828800"/>
            <a:ext cx="3130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62080" y="186120"/>
            <a:ext cx="8390520" cy="4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S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849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57800" y="376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EENR DATABASE ADD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EN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5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BRARY RESOURC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oks found through Online Catalog called HOMER and WORLDCA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gazines and Periodicals both in print or online or in libraries or through inter-library lo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ectronic resources  including electronic books, journals, newspapers and 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 D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s &amp; Aerial Photo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s, CDs, DVDs, Music Scores/Recor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Star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y UCONN Library Home P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lib.uconn.ed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simple or advance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ide on Books, Journals or Me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op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remember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borrow from UCONN, do not let anything become overdue, it will be a $95. charge for anything over 28 days and your UCONN account will be flagg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ine resources are available also through RHS Subscriptions and State of Connecticut Subscriptions which can be found by going to the RHS Library WIKISPACES PAGE 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rhslmc2008.wikispaces.com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CONN WEBSITE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ONN HOME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Page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 Guides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classguides.lib.uconn.e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to Specialized Resourc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HOMER, Book catalo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Articles and Databa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se the Resources Prepared for you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ABS to limit or se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Articles and Databases helps  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d databases that have articles, streaming media, and more in the following subjects..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Subjects or Keywo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rch for SPECIFIC if you have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results are too limited broaden 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39:36Z</dcterms:created>
  <dc:creator>fitzgeraldj</dc:creator>
  <dc:description/>
  <dc:language>en-US</dc:language>
  <cp:lastModifiedBy>fitzgeraldj</cp:lastModifiedBy>
  <dcterms:modified xsi:type="dcterms:W3CDTF">2012-05-02T16:24:28Z</dcterms:modified>
  <cp:revision>13</cp:revision>
  <dc:subject/>
  <dc:title>Library Orientation</dc:title>
</cp:coreProperties>
</file>